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4.wmf" ContentType="image/x-wmf"/>
  <Override PartName="/ppt/media/image21.jpeg" ContentType="image/jpeg"/>
  <Override PartName="/ppt/media/image19.png" ContentType="image/png"/>
  <Override PartName="/ppt/media/image18.wmf" ContentType="image/x-wmf"/>
  <Override PartName="/ppt/media/image1.png" ContentType="image/png"/>
  <Override PartName="/ppt/media/image23.gif" ContentType="image/gif"/>
  <Override PartName="/ppt/media/image17.jpeg" ContentType="image/jpeg"/>
  <Override PartName="/ppt/media/image16.wmf" ContentType="image/x-wmf"/>
  <Override PartName="/ppt/media/image15.jpeg" ContentType="image/jpeg"/>
  <Override PartName="/ppt/media/image3.jpeg" ContentType="image/jpeg"/>
  <Override PartName="/ppt/media/image24.jpeg" ContentType="image/jpeg"/>
  <Override PartName="/ppt/media/image2.wmf" ContentType="image/x-wmf"/>
  <Override PartName="/ppt/media/image4.jpeg" ContentType="image/jpeg"/>
  <Override PartName="/ppt/media/image22.gif" ContentType="image/gif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DE0B-A07A-4150-A256-D2307EACDBA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071D-AFB3-4DAC-A978-686A960B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28AB-F1F1-49A3-BE33-07941325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EFB1-B697-43AD-9B40-418A23007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C8BA-CDD3-40EA-A3D3-72009CCA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99BC-DBEF-43D3-BB7D-61C3FBB1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FE19-41DA-4714-9546-E7570FFE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8A69-40FD-404F-977D-58A8EE23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4035-529B-4FA5-B4C4-4D372C5D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09B5-077D-4CAC-8511-C4A61F92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CF91-6774-4B86-87F3-E371529D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96E4-E949-45F2-866B-BD97BFF1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BA8B-C617-4992-9C24-913C673A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461D-366F-405E-9F74-BAF0E89EB2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47640" y="333360"/>
            <a:ext cx="5688360" cy="2665080"/>
            <a:chOff x="1547640" y="333360"/>
            <a:chExt cx="5688360" cy="266508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547640" y="333360"/>
              <a:ext cx="5688360" cy="26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2706840" y="2173320"/>
              <a:ext cx="281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99"/>
                  </a:solidFill>
                  <a:latin typeface="Arial"/>
                </a:rPr>
                <a:t>Lesson 8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95280" y="3141720"/>
            <a:ext cx="820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Why Are Plants Importan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890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imes New Roman"/>
              </a:rPr>
              <a:t>Read the lesson and tick the items mentioned</a:t>
            </a: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907920"/>
            <a:ext cx="830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People can eat plants or use them 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dici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220500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Plants help make the air clean and fres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2997360"/>
            <a:ext cx="830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Many animals live in the fore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3860640"/>
            <a:ext cx="81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Books, paper, pencils and erasers 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e from pla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522936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Animals eat the fruit from the tre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720720" cy="936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647640" cy="936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24000" y="2852640"/>
            <a:ext cx="649080" cy="86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250920" y="5084640"/>
            <a:ext cx="79200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8360" y="54936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The plants cover the soil and can stop the du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When the weather is sunny and hot, people can sit in the shade under a tr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 The plants make everything look beautifu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. People use wood from trees to build houses and furni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720720" cy="936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720720" cy="936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50920" y="3284640"/>
            <a:ext cx="7207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6480" y="-19080"/>
            <a:ext cx="9156960" cy="6897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95280" y="0"/>
            <a:ext cx="837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omplete the passage with the correct forms of the words in the box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268280"/>
            <a:ext cx="79200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basic    shade   forest    cover   pleas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1989000"/>
            <a:ext cx="864216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re are many trees and plants. It’s ________to walk in the forest. When the weather is sunny and hot, you can sit in the_______ under a tree. Trees and other plants are our _______ needs for life. Many things are made from trees and plant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593280" y="2570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2781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pleas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4221000"/>
            <a:ext cx="14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h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11480" y="5091120"/>
            <a:ext cx="160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03640" y="5013360"/>
            <a:ext cx="13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a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-6480" y="-19080"/>
            <a:ext cx="9156960" cy="6897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4000" y="476280"/>
            <a:ext cx="831852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st animals live in the _____and eat the fruit from the trees. And plants ______ the soil. That way, the wind and water don’t carry the soil aw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593280" y="2570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76720" y="620640"/>
            <a:ext cx="14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for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32720" y="1341360"/>
            <a:ext cx="174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971640" y="2060640"/>
            <a:ext cx="72738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Language points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4000" y="409680"/>
            <a:ext cx="849600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It’s pleasant to d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…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做…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很愉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It’s pleasant to liv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in beautifu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urrounding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生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优美的环境里是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令人愉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at’s because beautiful handwriting c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give someone a good impression and als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it’s pleasant to re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是因为美丽的笔迹，可能给别人留下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好的印象，并且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愉快的阅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50920" y="189000"/>
            <a:ext cx="8496360" cy="66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pleasan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指一般性的好，强调所修饰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所具有的品质使人觉得好玩、有趣、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服，含有客观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had a very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pleasan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ime at thei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ouse last n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昨晚我们在他们家过得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愉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 hope you will have a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pleasan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oli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希望你过一个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愉快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假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please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只用于人，不用于物，指某人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足了自己的愿望而感到高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’m very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please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you can co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95280" y="549360"/>
            <a:ext cx="849636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shad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n.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树荫，阴凉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emperatures in the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shad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can r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orty-eight degrees at this time of yea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年中的这个时候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阴凉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温度能达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摄氏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hat a pleasant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shad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hese trees give u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些树底下多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阴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舒服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79280" y="260280"/>
            <a:ext cx="86407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fulfill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v.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达到，实现，执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must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fulfil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he plan, whatever happe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无论如何要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完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计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hat important dream have you yet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realize and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fulfil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有什么重要的梦想还没有实现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完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fulfill one’s needs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满足某人的需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 earth help human beings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fulfill thei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asic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nee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地球帮助人类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实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最基本的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需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0920" y="981000"/>
            <a:ext cx="8640720" cy="48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take energy from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从……获取能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ll plants and animals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take energy f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 su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所有的动植物都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太阳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获取能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eople must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take energy fro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fo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必须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食物中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获取能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05000"/>
            <a:ext cx="295272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leas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ulf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27640" y="2133720"/>
            <a:ext cx="439236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使人愉快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树荫；阴凉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v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达到；执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基本的；基础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土；土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5832360" cy="1439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62728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Words &amp;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9280" y="260280"/>
            <a:ext cx="8640720" cy="60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be made from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由……制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 house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is made fro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stee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房子是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钢铁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制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 paper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is made fro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wo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纸是树木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loth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made fro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silk is famous for 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ightness and beaut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丝绸以轻而美著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4000" y="476280"/>
            <a:ext cx="856908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carry awa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把……搬（移）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 flood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carried awa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he wooden bridg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洪水把木桥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冲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拓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carry off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轻而易举地完成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carry out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执行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carry forward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发扬，推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50920" y="189000"/>
            <a:ext cx="8569080" cy="67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will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carr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he enterprise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forwar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将要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推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企业的发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 politician’s successful speech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carrie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im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forwar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那个政治家成功的演讲使他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名声大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t’s a demanding role, but I’m sure she’l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e able to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carr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it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of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是一个富有挑战性的角色，但是我肯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能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胜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t won’t be an easy plan to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carry ou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那并不是一项容易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实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计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9280" y="189000"/>
            <a:ext cx="8785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in a wor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总之，一句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In a wor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he tires of everyth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简言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 他对一切都感到厌倦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In a wor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they can do everything they lik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ith mone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总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他们用金钱能做到他们喜欢做的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In a wor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I love my school. I find m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chool life more and more meaningful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olorfu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总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我爱我的学校，我发现学校生活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越有意义和多姿多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58920" y="476280"/>
            <a:ext cx="8785080" cy="56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主语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+ can’t…without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…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没有…不能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Fish can’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live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withou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wa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鱼没有水不能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I can’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succeed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withou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your suppo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没有你的支持，我不可能成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We canno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exist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withou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air, food and wa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没有空气、食物和水就不能生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413080" y="684360"/>
            <a:ext cx="4464000" cy="873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703960" y="771480"/>
            <a:ext cx="385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cc"/>
                </a:solidFill>
                <a:latin typeface="Times New Roman"/>
              </a:rPr>
              <a:t>Time for ref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989000"/>
            <a:ext cx="439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ake energy from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n a w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e made f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t’s pleasant to do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ulfill one’s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arry 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59280" y="2205000"/>
            <a:ext cx="3924360" cy="39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…获取能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总之，一句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由…制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做…很愉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满足…的需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把……搬（移）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4106880" cy="5046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659640" y="3860640"/>
            <a:ext cx="1279440" cy="1292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435640" y="2708280"/>
            <a:ext cx="3240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：另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档，点此链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09480" y="1025640"/>
            <a:ext cx="77724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l plants take energy ______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n and make it ______ fo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to; from              B. into; to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 from; to              D. from; i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Plants cover the soil. Then the wi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 water don’t carry the soil 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in                         B. out of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 away                    D. 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4520" y="333360"/>
            <a:ext cx="29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 Narrow"/>
              </a:rPr>
              <a:t>Multiple cho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427640" y="2852640"/>
            <a:ext cx="1004760" cy="895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38080" y="5486400"/>
            <a:ext cx="1005120" cy="895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93720" y="533520"/>
            <a:ext cx="799308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Are there many trees________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where do you live B. you live whe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 where you live      D. you live the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Let’s ____ trees and the reason wh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need th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to talk about      B. talking  ab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 talk at                 D. talk ab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Donuts don’t grow _____ tree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in     B. on     C. at     D.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24040" y="1771560"/>
            <a:ext cx="1004760" cy="895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572000" y="4286160"/>
            <a:ext cx="1004760" cy="895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424240" y="5562720"/>
            <a:ext cx="1004760" cy="895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74560" y="1066680"/>
            <a:ext cx="811224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Can you see seven monkeys ____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on     B. in     C. of     D. abo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The desks are made _______ wo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in     B. from     C. into     D.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 We make books ____ tre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from     B. on     C. at     D.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347920" y="2362320"/>
            <a:ext cx="1004760" cy="895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310440" y="3657600"/>
            <a:ext cx="1004760" cy="8953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824040" y="4819680"/>
            <a:ext cx="1004760" cy="895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11280" y="333360"/>
            <a:ext cx="41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Functions of For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6408720" cy="4464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020000" y="4869000"/>
            <a:ext cx="82872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09480" y="774720"/>
            <a:ext cx="813924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. People and other animals need fo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living   B. live   C. to live   D. l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. Miss Liu walks ____ these stude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between  B. among  C. in  D.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1. People can’t live _____ air or wa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with   B. without   C. in   D. and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343400" y="2228760"/>
            <a:ext cx="1004760" cy="8953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124080" y="3600360"/>
            <a:ext cx="1005120" cy="895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2500200" y="5105520"/>
            <a:ext cx="1005120" cy="895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79280" y="1219320"/>
            <a:ext cx="8888400" cy="52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rade _____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助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) the development of industr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t’s _________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愉快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) to climb mount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没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) food, they would have nothing to eat and they would di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can sit in the _____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树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)under the tre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rees and plants help us _____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满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) our basic need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30492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Fill in the bl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18960" y="1168560"/>
            <a:ext cx="11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el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8360" y="2997360"/>
            <a:ext cx="18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ith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5640" y="4076640"/>
            <a:ext cx="14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h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92360" y="234936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leas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80000" y="5373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ulf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7200" y="304920"/>
            <a:ext cx="8381880" cy="63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 We can turn the tree ____ pap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. Other structures will be _____ ____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由…制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)high tech materials called memory metals.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8. ____ a word, we can’t live without the su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9. Dinosaurs need a lot food ____ _____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生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. Floods can ______ _____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冲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) trees, hillsides, cars and even hous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49800" y="33336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56360" y="4076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o      l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24360" y="981000"/>
            <a:ext cx="246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made f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6000" y="2924280"/>
            <a:ext cx="74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19640" y="5373720"/>
            <a:ext cx="25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arry  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132000" y="693720"/>
            <a:ext cx="295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Preview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1258920" y="2492280"/>
            <a:ext cx="75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earn the words and phrases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esson 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Underline the sentences you don’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understand on page 2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6920" y="2781360"/>
            <a:ext cx="432000" cy="431640"/>
          </a:xfrm>
          <a:prstGeom prst="star5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4149720"/>
            <a:ext cx="432000" cy="431640"/>
          </a:xfrm>
          <a:prstGeom prst="star5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948360" y="549360"/>
            <a:ext cx="1656000" cy="1511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16556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564000" y="620640"/>
            <a:ext cx="3352680" cy="1128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1886040" cy="25146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971640" y="2492280"/>
            <a:ext cx="7488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rite a passage about why plants are important. (50-100 word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55640" y="692280"/>
            <a:ext cx="3456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hink about it!</a:t>
            </a:r>
            <a:endParaRPr b="1" lang="en-US" sz="1800" spc="1" strike="noStrike">
              <a:ln w="12600">
                <a:solidFill>
                  <a:srgbClr val="ff669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292720" y="549360"/>
            <a:ext cx="1150920" cy="1071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16000" y="1773360"/>
            <a:ext cx="770580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plants grow near your ho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y do we need tre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792000" cy="576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95280" y="2708280"/>
            <a:ext cx="792000" cy="576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908000" y="3500280"/>
            <a:ext cx="453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340000" y="18900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Plants near our 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4141800" cy="2879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788000" y="1052640"/>
            <a:ext cx="4032000" cy="2881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24000" y="4076640"/>
            <a:ext cx="4176720" cy="2781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772160" y="4110120"/>
            <a:ext cx="412092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732720" y="333360"/>
            <a:ext cx="1584360" cy="1087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55640" y="1700280"/>
            <a:ext cx="763272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To listen and understand the conversation about the importance of pla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o learn some useful words and expressions to talk about why we need tre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87640" y="765000"/>
            <a:ext cx="2808360" cy="642600"/>
          </a:xfrm>
          <a:prstGeom prst="rect">
            <a:avLst/>
          </a:prstGeom>
          <a:solidFill>
            <a:srgbClr val="00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380360" y="5516640"/>
            <a:ext cx="1438200" cy="10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55640" y="539640"/>
            <a:ext cx="684072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Words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pleasant,  shade, fulfill, basic, so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1773360"/>
            <a:ext cx="763272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hr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ake energy from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n a w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e made f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arry 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0" t="0" r="0" b="22623"/>
          <a:stretch/>
        </p:blipFill>
        <p:spPr>
          <a:xfrm>
            <a:off x="7380360" y="620640"/>
            <a:ext cx="1152360" cy="963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55640" y="5300640"/>
            <a:ext cx="53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It’s pleasant to do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主语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+can’t …withou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4724280"/>
            <a:ext cx="227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atter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8360" y="404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Read and answ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1197000"/>
            <a:ext cx="842472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542880">
              <a:lnSpc>
                <a:spcPct val="13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are Danny, Jenny and Brian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lking abou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They are talking about trees and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reason why we need th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Donuts don’t grow on trees, do the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No, they don’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4000" y="174600"/>
            <a:ext cx="8569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Why do we need tree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2800" indent="-71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(1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lean the air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2800" indent="-71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(2) Sit under a tree in the sha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2800" indent="-71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(3) The trees and plants take energy f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2800" indent="-71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the sun and turn it into fo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2800" indent="-71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(4) Medicine and clothing are made from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2800" indent="-71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trees and pla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2800" indent="-71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(5) Many animals live in the forest and ea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2800" indent="-71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the fruit from the tre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2800" indent="-71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(6) Cover the soi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2800" indent="-71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(7) Plants make everything look beautifu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13:37:35Z</dcterms:created>
  <dc:creator/>
  <dc:description/>
  <dc:language>en-US</dc:language>
  <cp:lastModifiedBy>User</cp:lastModifiedBy>
  <dcterms:modified xsi:type="dcterms:W3CDTF">2014-04-28T06:32:43Z</dcterms:modified>
  <cp:revision>2</cp:revision>
  <dc:subject/>
  <dc:title>幻灯片 1</dc:title>
</cp:coreProperties>
</file>